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D6F-DBEF-4817-8AA7-F0E395D2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963-BB8E-45B3-A032-E4C0739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9ACB-DA92-4955-A650-9032C13A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62BBD-D669-48A7-BC37-5692EC9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272CC-3D2B-4361-8B39-A2869C6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D0C7-C734-4F50-9311-25FEA7E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CCEBB-BD0B-4F67-9265-B392FF8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9AD42-0AF1-4D83-8D3F-BDD3311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48FCE-3A27-443E-87F2-0BD558B4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6489-C846-45DF-8F76-9BB6263B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B4F0-05BF-4243-BD47-94832051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46231-16AA-4E70-BDAF-366B8E3B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89A-780A-43F6-BEDA-49E114F8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7B60-4424-4FCD-874D-64DAF70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AA48A-C559-42D7-8EA9-2F15A932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CA72E-2C30-49D5-92E6-1C9D8DB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2A35-2FE3-4796-96EB-AB9A9A4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DAA36-CBE2-47D7-B969-79A8EB6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D8CB-3E49-4A97-8934-983AEF2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856A-9F1C-40F4-AD1E-9219A01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867B-3081-45AE-B704-9B76A01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5B902-33AB-4987-AE74-575FDA34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007E3-7D0B-41AE-B944-897203F0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E00-8419-4D66-87CE-74B18815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5F33A-57CF-4F42-B8DA-C8139CEF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3130-B102-41F5-A904-383DCE6A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56D8-B069-42F5-B12D-0CC6989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B548-6250-450F-B748-29031B06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F598-508E-4D71-9AEA-C9FC27A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167F8-4461-40B5-AE35-F1174A54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3867-BE21-468C-88C7-4F470DB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523E-5B9B-4348-82C2-0A0B152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B3A34-35C7-46C5-96D9-DE8F882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2B29C-BAC5-4D6C-92DE-5EFE453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D111-81B9-4C4F-9F93-649EA892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FA6A-4451-4EBB-8AEF-4CE00A8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1A98-8D3A-4D59-A6BC-55444062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E0858-3779-4627-985E-214B5754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0762E-A8C8-48A8-95D9-F3979EC7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6D0B1-3225-4B11-912A-8C91A0B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4675E-92FE-44C0-9F80-7793DDB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2E056-9018-4458-8CC1-2C908CE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F5B9C-0D36-47E6-B567-FAB8D298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62DAB-7BA4-4A7B-9AAE-EF9F0EB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69D58-9BB3-4351-A4EC-B934166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0491-9F58-4654-AD82-1037E77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24FC0-8C2F-469A-9489-DFD97A4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51FC5-E793-40C7-B9ED-F768D3B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3402C-11FC-4FAC-BBE3-F59FE24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D8F3-F77E-408C-930E-81AFFE87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C5FC9-83F4-46D4-A2B7-C19E08B2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6B1-6D69-47C4-B31B-5B0CD1C2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092-9453-42A1-93DE-4BE99BC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6D3-1B8B-41C3-B49D-7B986B7D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C34-B041-4CD6-BA23-1CE0C15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59D9-9ADA-463F-B3B3-56002CE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5D6-2DDC-4583-A7EB-72D1B75F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0F5-8439-4675-A325-374FE8C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6B6-A067-41C2-89E3-5AA4E3A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C4D-197C-4CCE-8420-09FB2167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6FA-2841-4314-8927-A67B7586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D00-9024-4611-BF15-F3E7355E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512F-05F0-4FDF-94AE-6A83DD31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612D-5646-4165-BB9C-2F243FA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25F6-FA74-4964-9C93-5306E2A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36A2-C938-4248-ADAE-E7B731C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9B60-E023-43C4-BB4B-6CD16AD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4FC-256C-4D4E-A19B-2DEAA90B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8187-96B4-4F96-AC0C-F9379B2F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B426-7A60-4D15-8AEA-5DC8DB7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A99B-835D-4EE6-9B6C-10B8913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AD29-BBC2-4A19-84FE-AA9EA83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0800-CD98-4980-BC96-6259A43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2788-47A8-4266-B2E7-E35DA7CF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68C3-91A6-43B3-865B-EF8B3D49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7E0F-4BEE-4ADC-861C-55C41776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3644-67C3-46A7-A79D-B3992BE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89E7-09B3-4014-A90C-61808705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DBE-E50E-4BED-955B-BB2D3436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F08D-0D3C-4A7E-92E4-992E0DE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FC76-81E1-4036-A2AF-7AB9FAD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69E2-A11A-42B9-B54D-054E88B9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2BAD-6E21-434D-BDA5-0BF93DD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F09C-35C0-4707-A1D6-DBEA640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767D-B7E2-4899-8C91-29320D20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6D08-DAE4-4B3A-8EDF-B72D6FC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C3A9-8E27-46AD-A153-4B524E26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6D17-0B26-45A2-A01D-0F650164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1771-D1C2-46CD-A2D2-E980168B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61E-6174-4547-933C-516E87A1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208DD-6547-407D-86CE-4A621610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94DA-F928-4FA6-B7F0-8E53D24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DCB5-E8F5-4531-963A-5E78229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6B9B-0D91-455F-9602-A82BEC18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8CA0-A283-4EBB-885C-6C57FB2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479E-995F-42D1-BCC2-C5CD817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AC50-837C-4459-83D9-E2475C6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B7BC-BC46-4133-9EFC-418C528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B3B9-45C4-4545-B2D0-494A103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C5D2-F343-46F1-9683-4211E50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9C1-BF81-49E5-9EB9-7AD8CCB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C677-2739-45B1-8333-F75AB073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88F9-C28B-4066-8A6B-BC2B4FBF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06C4E-DD20-4BEB-9BC0-4869EA3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7B8A-CA96-4B55-ABFC-7EE6026A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A9AD-78F5-4B89-9836-3874CB3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2043-0CE5-4564-BFE9-D094E34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082AC-C919-4D78-88B7-60453022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F46A-7A26-4861-91FA-857DDBC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32E33-827E-4859-A9C8-6B3E741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861D-F1FE-47B2-9772-6DD135F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9EA-877C-4EBF-8C0A-3117962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9128-A3AA-4438-911B-C5C53D4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3634-FF3E-455C-AC67-2B296CCC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3712-CCA7-4D77-91CC-F750AD1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0A9E-EF2E-477E-A562-A41AC382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BB1E-F912-4AA5-BD1D-197C9200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E710-EDC4-4469-BA75-68869F41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0496-BC09-4991-96A0-2F6C121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503B4-643F-4761-895B-BCF8E5AB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7D03-52DE-4C2C-8E35-F00CF11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AF89-BF01-4EB1-AF85-798717D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971-D7B3-4EC5-9ABF-0B6E7A1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4A1B6-F60B-41B1-B7F8-BDB8140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AFEE-A7A6-4A13-94A5-641F218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784D-E3AF-4DE7-A0BA-56E2D878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EF68-CBA5-472A-824A-17703855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805D-2835-4F64-AF86-009E04AC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20F0C-0B3D-42EE-8CB8-4EF1A56F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B2A0-C095-4740-9685-77D7073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D38A-BD9D-4CAC-AD70-778D8FD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4BA18-A30F-41FC-B090-2BC638D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FF8D0-0B9A-44B8-933C-299C5910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3A6-E55A-455E-AD7B-D56937F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8595-5006-453E-B42A-530AD44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84597-6F5F-4F1D-AD79-9A366D3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88A01-334E-4398-A83C-CFF0EA7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BB07A-E7A4-4602-8DC1-6B3F771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CBF6-0DA8-4D78-B354-9677DDCD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6DDB3-8B54-49DF-AF13-B954507A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D1BC-BC71-4C8A-B6E8-36827C61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02FA1-1D25-43CC-973C-A27E91E4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801AE-BF26-43D3-A5A3-45AC8DEF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4243A-5E17-4D54-89D7-9FD8812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185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2185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12185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12186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12186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12186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12186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086-5EB2-416E-8D7C-8B6F7C9C095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B41-52FF-4C53-8395-3AE79178B0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4D3C-D5C7-4B98-82BD-01A1535766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37BB-A508-49C5-8608-84687F1D9D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2288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12288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12288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12288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12288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12288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12288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1E3E-745E-4DD6-9B47-D0195A7C99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945-2D20-4B80-83E7-A550106436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979-A137-4C9A-8C89-521757C472C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43A4-40F6-4E5F-BE1E-5AF793C9F3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0A9A-F052-4CAC-AB5C-FC843DD31B0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C12-A152-4937-9F63-3BDA2E43479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69D-1472-4A7E-9CEF-722BE88ACE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FF4-7A4A-4D3F-8C46-4B2ACEA0A3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82945" descr="f38cf0125e274690f7039ec6"/>
          <p:cNvPicPr/>
          <p:nvPr/>
        </p:nvPicPr>
        <p:blipFill>
          <a:blip r:embed="rId1"/>
          <a:stretch/>
        </p:blipFill>
        <p:spPr>
          <a:xfrm>
            <a:off x="-396720" y="-674640"/>
            <a:ext cx="9864720" cy="7532640"/>
          </a:xfrm>
          <a:prstGeom prst="rect">
            <a:avLst/>
          </a:prstGeom>
          <a:ln w="0">
            <a:noFill/>
          </a:ln>
        </p:spPr>
      </p:pic>
      <p:pic>
        <p:nvPicPr>
          <p:cNvPr id="507" name="4.鸟的天堂.wma" descr=""/>
          <p:cNvPicPr/>
          <p:nvPr/>
        </p:nvPicPr>
        <p:blipFill>
          <a:blip r:embed="rId2"/>
          <a:stretch/>
        </p:blipFill>
        <p:spPr>
          <a:xfrm>
            <a:off x="2771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标题 52227" descr=""/>
          <p:cNvPicPr/>
          <p:nvPr/>
        </p:nvPicPr>
        <p:blipFill>
          <a:blip r:embed="rId1"/>
          <a:stretch/>
        </p:blipFill>
        <p:spPr>
          <a:xfrm>
            <a:off x="-181080" y="228600"/>
            <a:ext cx="93250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95233" descr="2007911212521254145391"/>
          <p:cNvPicPr/>
          <p:nvPr/>
        </p:nvPicPr>
        <p:blipFill>
          <a:blip r:embed="rId1"/>
          <a:stretch/>
        </p:blipFill>
        <p:spPr>
          <a:xfrm>
            <a:off x="0" y="0"/>
            <a:ext cx="896472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84993" descr="20071089444346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文本框 7170"/>
          <p:cNvSpPr/>
          <p:nvPr/>
        </p:nvSpPr>
        <p:spPr>
          <a:xfrm>
            <a:off x="2008080" y="433440"/>
            <a:ext cx="505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　　起初四周围非常清静。后来忽然起了一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鸟叫。我们把手一拍，便看见一只大鸟飞了起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来，接着又看见第二只，第三只。我们继续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掌。很快地这个树林就变得很热闹了。到处都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是鸟声，到处都是鸟影。大的，小的，花的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黑的，有的站在枝上叫，有的飞起来，有的在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扑翅膀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　　我注意地看着。我的眼睛真是应接不暇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看清楚这只，又看漏了那只，第三只又飞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了。一只画眉飞出来，给我们的拍掌声一惊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又飞进了叶丛，站在一根小枝上兴奋地唱着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它的歌声真好听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86017" descr="377adab481df63368bd4b21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89089"/>
          <p:cNvSpPr/>
          <p:nvPr/>
        </p:nvSpPr>
        <p:spPr>
          <a:xfrm>
            <a:off x="380880" y="22892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　　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昨天我的眼睛骗了我。 “鸟的天堂”的确是鸟的天堂啊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105473"/>
          <p:cNvSpPr/>
          <p:nvPr/>
        </p:nvSpPr>
        <p:spPr>
          <a:xfrm>
            <a:off x="0" y="0"/>
            <a:ext cx="9036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</a:t>
            </a:r>
            <a:r>
              <a:rPr b="0" i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鸟的天堂导游词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游客们注意了，大家看我手上拿的是我们今天要参观的旅游盛地的模型。大家是不是会觉得它很像一个蘑菇。这就对了，这是位于广东省新会市南郊天马村的“鸟的天堂”。那儿有着数不胜数的小鸟和一株历史悠久的老榕树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耳听为虚，眼见为实！现在让我们去亲身体验体验，看它是不是真的有那么神。好！下面开始进行我们的快乐之旅吧！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因为通往“鸟的天堂”须走一条水路。所以我们现在要去坐船。坐在船上河面两则的水花飞射，打到脸上舒服极了。离目的地还有十五分钟的路程，我来给大家讲讲“小鸟天堂”的故事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据资料记载“鸟的天堂”这个“堂”是由一株古老榕树组成的。这棵树巨大无比，是世界上最大的榕树。它有五百多年的历史，它有许多许多树干和枝叶，它们全部向外撒开，远看，看上去像一个沉睡的小姑娘。既壮观而又美丽。树上生活着成千上万的鸟儿们。给榕树曾增了不少姿色。它还在巴金笔下显出过风彩。它们白天就在“鸟语林”里吃喝玩乐，晚上就在树上高歌一唱。有时它们群体练习空中芭蕾时，那景像可壮观啦！所有的鸟儿一齐从叶丛中直冲云霄你感觉一股风向你吹来。鸟影在阳光的照耀下显得特别漂亮，有的空中旋转，有的不停的拍打翅膀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……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个精神抖擞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大家看吧！这就是明副其实的“鸟的天堂”，让我们一起身临其境的去感受它的可爱，让我们与“鸟的天堂”零的接触。首先，我们到“天堂”里边去转悠转悠。抬头望望真有点独木成林的感觉。树叶一簇搭着一簇简直不留一点儿缝隙，这使你不会担心夏日的炎热。呆在里边凉快极了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106497"/>
          <p:cNvSpPr/>
          <p:nvPr/>
        </p:nvSpPr>
        <p:spPr>
          <a:xfrm>
            <a:off x="250920" y="0"/>
            <a:ext cx="864216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瞧！这些鸟儿们可真懂礼貌呀！个个都在为我们表演呢！一只麻雀从枝叶上“跳”了出来，张着小脑袋，在空中跃过来跃过去。哎！“上班时间还敢偷赖！又一真画眉鸟在开化妆舞会呢，身穿着漂亮的五彩衣在鸟群中自由自在的飞翔，好像生怕没有人看到它的舞姿。嘴里还喳喳呀呀，喳喳呀呀的唱着歌，多么盛大的舞会呀。翠鸟、布古鸟、喜鹊、燕子、天鹅等众多著名歌唱家也来到了舞会现场。每到一个地方都会有鸟群，注意的去倾听，你会感觉是多么的优雅与欢快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噢！对了忘了告诉大家，一些有摄像机的朋友们可别只光顾着自己看了，还不赶快把这些生动有趣的画面拍下来，不然可就遗憾喽！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呀！一只丹顶鹤大摇大摆的走过来，看上去牌气不太好，大家可别惹它。咱们惹不起，躲的起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……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来到这里的游客都会体验一次“斗鸟”的乐趣。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它们好像很欢迎我们似的，那样子真有趣。转了转它那圆溜的“小豆豆”，然后踮起脚尖，挥起它那微弱而又有力的翅膀。跃过来跃过去，那生命力真活跃，真让人喜爱。就像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……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对，就像一只快的小精灵似的。不信你去试试，大家拍拍手，把鸟儿们全引出来吧！一些胆儿大的鸟，它会趁你不注意停息在你的头上、眉上还有包上。它们可顽皮了，它们停在你的身上用脆弱小爪子直在你身上抓，虽然又疼又痒但始终没有人会去舍得抛开它们，因为这些小东西太可爱，让你不得不去迁就它。有时用手去触摸它的羽毛可光滑了。夕阳无限好，只是近黄昏。鸟儿们也该回巢了，我们也收工吧！今天的旅游到此为止，明天我们再次来到这，来观光这迷人的“鸟的天堂”吧！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文本框 13313"/>
          <p:cNvSpPr/>
          <p:nvPr/>
        </p:nvSpPr>
        <p:spPr>
          <a:xfrm>
            <a:off x="304920" y="533520"/>
            <a:ext cx="8550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作业：“鸟的天堂”目前已成为一处游览胜地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请你根据课文内容，并想办法搜集一些有关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的材料，在下节课中为导游写一篇简短的解说词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建议围绕这些问题进行收集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鸟的天堂的具体地址在哪儿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鸟的天堂的有多少年的历史了 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3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鸟的天堂最初是怎样形成的 ？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4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鸟的天堂里有哪些种类的鸟 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5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、人们是怎样保护鸟儿的？　　　　　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…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…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16:56Z</dcterms:created>
  <dc:creator/>
  <dc:description/>
  <dc:language>en-US</dc:language>
  <cp:lastModifiedBy>万润仪器贸易公司</cp:lastModifiedBy>
  <dcterms:modified xsi:type="dcterms:W3CDTF">2020-08-24T06:36:5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